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6DA4-66B1-4552-91C8-92027C700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F975-9CE7-478C-844D-4B5E30796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6E9EF-9A99-411D-9A2B-071A64EBC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71C6B-3D38-44E3-8D5D-2236F6B35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7B109-D4F2-4DE0-B838-D0E33B902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96CDB-1BF1-47AF-BF27-94D3A1B3C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9296-29AC-4914-AFD9-04E11BBA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EF626-C291-404B-B25F-727249DA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05E97-9A6B-482F-85C2-3FD498913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9ACA-2DA2-4D19-8960-9BAAA427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A7F86-F851-4DFA-9A4E-0BE451256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A14E-26D9-4643-B339-1BA3E17C6D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26B4-39F9-49F9-9688-9544EED74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druid.com/85465-courchevel-station-de-sports-d-hiver-saint-bon-tarentaise-rhone-alpes-france" TargetMode="External"/><Relationship Id="rId3" Type="http://schemas.openxmlformats.org/officeDocument/2006/relationships/hyperlink" Target="http://www.geodruid.com/85465-courchevel-station-de-sports-d-hiver-saint-bon-tarentaise-rhone-alpes-france"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943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2"/>
              </a:rPr>
              <a:t>Courchevel</a:t>
            </a:r>
            <a:r>
              <a:rPr b="0" lang="en-US" sz="4400" spc="-1" strike="noStrike" u="sng">
                <a:solidFill>
                  <a:srgbClr val="009999"/>
                </a:solidFill>
                <a:uFillTx/>
                <a:latin typeface="Arial"/>
                <a:hlinkClick r:id="rId3"/>
              </a:rPr>
              <a:t> Fr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
          <p:cNvSpPr/>
          <p:nvPr/>
        </p:nvSpPr>
        <p:spPr>
          <a:xfrm>
            <a:off x="17754480" y="1828800"/>
            <a:ext cx="3733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1143000"/>
            <a:ext cx="640080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143000" y="114300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95280" y="1066680"/>
            <a:ext cx="647712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here Mme. Di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	</a:t>
            </a:r>
            <a:r>
              <a:rPr b="0" lang="en-US" sz="1800" spc="-1" strike="noStrike">
                <a:solidFill>
                  <a:srgbClr val="cc0000"/>
                </a:solidFill>
                <a:latin typeface="Arial"/>
              </a:rPr>
              <a:t>Ce matin, je sius arrive a courchevel. J’ai enregistre a l’hotel, c’est L’hotel La sivoliere. J’ai une belle vue des Alpes. J’ai dejeune dans le restaurant de l’hotel; j’ai mange une pizza. Je suis alle a la montagne et j’ai fait le tubing. Je n’ai jamais fait due ski – je prefere le tubing. C’est une journee amus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Votre ele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76320"/>
            <a:ext cx="5486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t>
            </a:r>
            <a:r>
              <a:rPr b="0" lang="en-US" sz="2400" spc="-1" strike="noStrike">
                <a:solidFill>
                  <a:srgbClr val="000000"/>
                </a:solidFill>
                <a:latin typeface="Arial"/>
                <a:ea typeface="Arial"/>
              </a:rPr>
              <a:t>ère Mme. Dill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Je suis tres bien.  L’hotel est tres grande. J</a:t>
            </a:r>
            <a:r>
              <a:rPr b="0" lang="en-US" sz="2400" spc="-1" strike="noStrike">
                <a:solidFill>
                  <a:srgbClr val="000000"/>
                </a:solidFill>
                <a:latin typeface="Arial"/>
              </a:rPr>
              <a:t>'ai vu</a:t>
            </a:r>
            <a:r>
              <a:rPr b="0" lang="en-US" sz="3200" spc="-1" strike="noStrike">
                <a:solidFill>
                  <a:srgbClr val="000000"/>
                </a:solidFill>
                <a:latin typeface="Arial"/>
              </a:rPr>
              <a:t> </a:t>
            </a:r>
            <a:r>
              <a:rPr b="0" lang="en-US" sz="2400" spc="-1" strike="noStrike">
                <a:solidFill>
                  <a:srgbClr val="000000"/>
                </a:solidFill>
                <a:latin typeface="Arial"/>
              </a:rPr>
              <a:t>Matheus Sardinha. J’ai ne vu jamais un chien.</a:t>
            </a:r>
            <a:r>
              <a:rPr b="0" lang="en-US" sz="3200" spc="-1" strike="noStrike">
                <a:solidFill>
                  <a:srgbClr val="000000"/>
                </a:solidFill>
                <a:latin typeface="Arial"/>
              </a:rPr>
              <a:t> </a:t>
            </a:r>
            <a:r>
              <a:rPr b="0" lang="en-US" sz="2400" spc="-1" strike="noStrike">
                <a:solidFill>
                  <a:srgbClr val="000000"/>
                </a:solidFill>
                <a:latin typeface="Arial"/>
              </a:rPr>
              <a:t>Le dîner grande et tres bien. J'ai obtenu un hamburg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re ele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990720"/>
            <a:ext cx="3276720" cy="2286000"/>
          </a:xfrm>
          <a:prstGeom prst="rect">
            <a:avLst/>
          </a:prstGeom>
          <a:noFill/>
          <a:ln w="0">
            <a:noFill/>
          </a:ln>
        </p:spPr>
        <p:txBody>
          <a:bodyPr lIns="90000" rIns="90000" tIns="46800" bIns="46800" anchor="t">
            <a:normAutofit fontScale="85000"/>
          </a:bodyPr>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re Mme Dill,</a:t>
            </a:r>
            <a:endParaRPr b="0" lang="en-US" sz="18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mbre de la hotel  est tres bonne. J’ai fait tubing a nouveau. Je visite un restaurant de l’hotel </a:t>
            </a:r>
            <a:r>
              <a:rPr b="0" lang="en-US" sz="1600" spc="-1" strike="noStrike">
                <a:solidFill>
                  <a:srgbClr val="000000"/>
                </a:solidFill>
                <a:latin typeface="Arial"/>
              </a:rPr>
              <a:t>pour le dîner. Je vu le chiots. Je ne vu jamais cheins.</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otre eleve, </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n</a:t>
            </a:r>
            <a:endParaRPr b="0" lang="en-US" sz="1600" spc="-1" strike="noStrike">
              <a:solidFill>
                <a:srgbClr val="000000"/>
              </a:solidFill>
              <a:latin typeface="Arial"/>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91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428640" y="5028840"/>
            <a:ext cx="4419720" cy="205740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re Mme. Dill</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jourd'hui petit déjeuner était fantastique. J'ai vu mon favorite muscien. Son nom est Skrillex.  Son est tres bein. J’ai ne vu jamais Matheus Sardinha. Son n'est pas ici. J'ai acheté des bonbons.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re eleve</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3886200"/>
            <a:ext cx="82296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e Mme D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jourd'hui c'est mon dernier jour. C'était amusant. Le déjeuner n'était pas très bon. J'écoutais de la musique. J’ai fatigué. Maintenant, je dois aller à mon av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tre elev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30:07Z</dcterms:created>
  <dc:creator>scottsea</dc:creator>
  <dc:description/>
  <dc:language>en-US</dc:language>
  <cp:lastModifiedBy>edill</cp:lastModifiedBy>
  <dcterms:modified xsi:type="dcterms:W3CDTF">2012-02-03T16:13:56Z</dcterms:modified>
  <cp:revision>10</cp:revision>
  <dc:subject/>
  <dc:title>COURCHEVEL - STATION DE SPORTS D'HIVER (SAINT-BON-TARENTAISE) </dc:title>
</cp:coreProperties>
</file>